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9DE-3BF6-423F-8193-7E0CDE5F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843-527C-4C6E-9656-A30B665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96-A03B-40BA-A604-C5B8D3C5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C02-084B-41BB-801C-E1B91B87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E3B-473D-4DA1-92D7-B6D9484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C0C-6F5E-49F5-9A70-754F948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176-8B3F-4AA0-AECE-00B18F83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347-7383-4F4D-BE83-FC5130A6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60F-4832-43D0-AAD2-2AFA01E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4CB-1DF9-476A-BDD0-9F754B8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FC1-C3C9-44D2-B90B-F09E5678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74B-5708-49F9-817B-E4F37792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9DEF-C41B-43BB-94F3-20DAB0738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71600" y="2438280"/>
            <a:ext cx="6400800" cy="29718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irections: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Spin the spinner to advance your game piece through Scott Hudson’s freshman year. First player to reach the end wi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9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92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609480" y="30492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Gill Sans Ultra Bold"/>
              </a:rPr>
              <a:t>Sleeping Freshmen Never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3880" y="57150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>
            <a:off x="3200400" y="5715000"/>
            <a:ext cx="1143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4876920" y="5715000"/>
            <a:ext cx="11430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2"/>
          <p:cNvSpPr/>
          <p:nvPr/>
        </p:nvSpPr>
        <p:spPr>
          <a:xfrm>
            <a:off x="6553080" y="5715000"/>
            <a:ext cx="1143000" cy="9144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8"/>
          <p:cNvGrpSpPr/>
          <p:nvPr/>
        </p:nvGrpSpPr>
        <p:grpSpPr>
          <a:xfrm>
            <a:off x="304920" y="533520"/>
            <a:ext cx="8534160" cy="5943600"/>
            <a:chOff x="304920" y="533520"/>
            <a:chExt cx="8534160" cy="5943600"/>
          </a:xfrm>
        </p:grpSpPr>
        <p:sp>
          <p:nvSpPr>
            <p:cNvPr id="50" name="Rectangle 5"/>
            <p:cNvSpPr/>
            <p:nvPr/>
          </p:nvSpPr>
          <p:spPr>
            <a:xfrm>
              <a:off x="304920" y="15238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4920" y="2514600"/>
              <a:ext cx="121896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304920" y="35053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304920" y="4495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304920" y="5486400"/>
              <a:ext cx="121896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1523880" y="54864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2743200" y="5486400"/>
              <a:ext cx="121932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2743200" y="449568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2743200" y="35053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5"/>
            <p:cNvSpPr/>
            <p:nvPr/>
          </p:nvSpPr>
          <p:spPr>
            <a:xfrm>
              <a:off x="2743200" y="251460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2743200" y="15238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2743200" y="53352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a tur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3962520" y="5335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5181480" y="5335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5181480" y="15238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181480" y="25146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5181480" y="350532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3"/>
            <p:cNvSpPr/>
            <p:nvPr/>
          </p:nvSpPr>
          <p:spPr>
            <a:xfrm>
              <a:off x="5181480" y="449568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4"/>
            <p:cNvSpPr/>
            <p:nvPr/>
          </p:nvSpPr>
          <p:spPr>
            <a:xfrm>
              <a:off x="5181480" y="548640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e ahe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6400800" y="548640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7620120" y="548640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7620120" y="4495680"/>
              <a:ext cx="121896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7620120" y="35053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7620120" y="251460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1"/>
          <p:cNvSpPr/>
          <p:nvPr/>
        </p:nvSpPr>
        <p:spPr>
          <a:xfrm>
            <a:off x="1523880" y="25146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962520" y="44956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3"/>
          <p:cNvSpPr/>
          <p:nvPr/>
        </p:nvSpPr>
        <p:spPr>
          <a:xfrm>
            <a:off x="1143000" y="239220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3581280" y="44197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Nancy</cp:lastModifiedBy>
  <dcterms:modified xsi:type="dcterms:W3CDTF">2012-07-10T03:08:37Z</dcterms:modified>
  <cp:revision>15</cp:revision>
  <dc:subject/>
  <dc:title>Slide 1</dc:title>
</cp:coreProperties>
</file>